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4C0-52C8-47CA-8359-7FEE0646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BBC-81B0-4419-B850-22D44A10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00F-2F25-4268-BEC5-BC15C039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AC6-6895-433F-9C91-39C1C9E4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67A1-3832-4FB1-ABEC-B2B11847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21BD-CA86-4895-8BD9-741CF451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2469-0E21-4B94-A059-78436B3B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0363-3D8F-449B-96BA-168F3282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3D41-CB80-4F3C-9128-66F06CB3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1D31-802C-46AE-B993-6E313D58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CBC1-3E0A-478A-BD55-3E35B6FF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269-D6AF-407A-A8C7-E7041843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D7F9-0E5B-4599-9AF2-8AA0790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1BA1-6294-4FB7-9D1D-988445C7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106F-E458-4AA6-B74D-417DADCE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73AB-4D1C-400D-AE5C-6262199B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73EA-742C-49A6-8F07-B9269A9C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874-6EDA-4BE8-A907-03D7729D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07F-6C19-450D-A656-57905B46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998-81EE-47DF-AF6D-62C5D6C7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0C2-423E-4FF2-814E-EE825FAD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AB9-AE81-4514-AADE-A7EBC5A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A78-BF06-4CCE-9710-A84B2325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B36-DACB-4112-9003-4457E579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EB09-F2CD-41A5-87C9-500EE06C0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55E6-F961-4B16-AE8B-6BC571DA0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Funkcja logarytmicz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onika Buj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zó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unkcji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x)= log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x,   gd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a&gt;0, a≠1, x&g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rzykłady</a:t>
            </a: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91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f(x)=log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f(x)=log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=log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2920" y="1599840"/>
            <a:ext cx="3891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=lo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¾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ykr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funkcji   dla   a</a:t>
            </a:r>
            <a:r>
              <a:rPr b="0" i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(0;1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2389320" y="1413000"/>
            <a:ext cx="4403520" cy="47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ykres funkcji   dla   a</a:t>
            </a:r>
            <a:r>
              <a:rPr b="0" i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(1;</a:t>
            </a:r>
            <a:r>
              <a:rPr b="0" i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51000" y="1484280"/>
            <a:ext cx="474048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łasności funkcji  dla  a</a:t>
            </a:r>
            <a:r>
              <a:rPr b="0" i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(0;1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kcja maleją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kcja różnowartości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a x=1 , f(1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a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1) , f(x)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a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, f(x)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łasności funkcji  dla  a</a:t>
            </a:r>
            <a:r>
              <a:rPr b="0" i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(1;</a:t>
            </a:r>
            <a:r>
              <a:rPr b="0" i="1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kcja rosną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kcja różnowartości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a x=1 , f(1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a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1) , f(x)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a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, f(x)&gt;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86696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7440" y="1628640"/>
            <a:ext cx="400212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9:27:45Z</dcterms:created>
  <dc:creator>Administrator</dc:creator>
  <dc:description/>
  <dc:language>en-US</dc:language>
  <cp:lastModifiedBy>Administrator</cp:lastModifiedBy>
  <dcterms:modified xsi:type="dcterms:W3CDTF">2002-12-06T10:48:00Z</dcterms:modified>
  <cp:revision>25</cp:revision>
  <dc:subject/>
  <dc:title>Funkcja logarytmiczna</dc:title>
</cp:coreProperties>
</file>